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7315200" cy="914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-10287000" y="685440"/>
            <a:ext cx="2743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fld id="{0B9AB307-7EFF-41E1-8CAE-815B8B8B74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-10287000" y="685800"/>
            <a:ext cx="2743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de-DE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fld id="{9B0DEF97-D9CD-44A8-900E-0BA94D5ACDD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-10287000" y="685800"/>
            <a:ext cx="2743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de-DE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fld id="{9646B92A-649C-4322-AE4D-7374E7D22DF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-10287000" y="685800"/>
            <a:ext cx="2743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de-DE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fld id="{529C2231-9F00-49EF-B2F8-1122A447C4F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-10287000" y="685800"/>
            <a:ext cx="2743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de-DE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fld id="{603EDFA6-8277-4F9E-90E7-F030493E9B5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-10287000" y="685800"/>
            <a:ext cx="2743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de-DE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fld id="{C49FC178-B9F5-4484-8915-0BBC06B4689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-10287000" y="685800"/>
            <a:ext cx="2743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de-DE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fld id="{D64844DC-340C-44DE-8AA9-E2D3A54AFC0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-10287000" y="685800"/>
            <a:ext cx="2743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de-DE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fld id="{28A4C953-9A22-4D30-9A9E-98A5B95A062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-10287000" y="685800"/>
            <a:ext cx="2743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de-DE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fld id="{9BE16D4A-B0FE-4633-8D99-8AF7506141B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-10287000" y="685800"/>
            <a:ext cx="2743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de-DE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fld id="{50314EFB-3A62-4CA2-B336-21C785198FE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-10287000" y="685800"/>
            <a:ext cx="2743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de-DE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fld id="{80F0219F-5BD6-4A7F-BAC8-CC5C56F4E4C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-10287000" y="685800"/>
            <a:ext cx="2743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de-DE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fld id="{2A91C480-EBD6-4519-9FB3-D61717AA02F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-10287000" y="685800"/>
            <a:ext cx="2743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de-DE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fld id="{E2A9B507-C05B-465B-A283-1D3D0E8CB83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-10287000" y="685800"/>
            <a:ext cx="2743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de-DE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fld id="{1B1360C0-AE4F-4079-9368-FECB933C1D3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-10287000" y="685800"/>
            <a:ext cx="2743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de-DE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fld id="{F07EE305-2815-4CE8-B1D8-468BD2E03F2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-10287000" y="685800"/>
            <a:ext cx="2743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de-DE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fld id="{C4936B56-04A6-4B81-BCEB-0CB01AD3BB7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-10287000" y="685800"/>
            <a:ext cx="2743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de-DE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fld id="{67286FA5-5B84-4B39-8654-2B1C34D5AB3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-10287000" y="685800"/>
            <a:ext cx="2743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de-DE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fld id="{FD1848C8-7C52-4CA5-93F6-1D7F2D3CD16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-10287000" y="685800"/>
            <a:ext cx="2743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de-DE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fld id="{8638FFA3-E3A5-4152-B9C8-1F6A8856E42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-10287000" y="685800"/>
            <a:ext cx="2743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de-DE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fld id="{E40CB6AD-BF16-470A-9544-F043B4B3134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-10287000" y="685800"/>
            <a:ext cx="2743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de-DE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fld id="{06DD689D-B40C-46D3-9255-95298266428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-10287000" y="685800"/>
            <a:ext cx="2743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de-DE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fld id="{06D57F2E-1CFE-498D-B3A1-CC0931E0005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-10287000" y="685800"/>
            <a:ext cx="2743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de-DE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fld id="{06186212-0D49-4FC6-A66E-CD86B93BFBB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-10287000" y="685800"/>
            <a:ext cx="2743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de-DE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fld id="{503482B1-F1E2-4365-A0CB-614B2F306B6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-10287000" y="685800"/>
            <a:ext cx="2743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de-DE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fld id="{D1C86142-7BD4-40A2-A5CC-D71AFC9F705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-10287000" y="685800"/>
            <a:ext cx="2743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de-DE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fld id="{7B06099A-7670-4542-8FED-773FEECB7FD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-10287000" y="685800"/>
            <a:ext cx="2743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de-DE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fld id="{73FE4004-BB95-4EAF-B907-043AB7743C7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-10287000" y="685800"/>
            <a:ext cx="2743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de-DE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fld id="{C93F1399-00F9-436D-91A7-AEB213CAC40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-10287000" y="685800"/>
            <a:ext cx="2743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fld id="{F7047BD3-7A3A-4136-B79A-EE097CE9545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-10287000" y="685800"/>
            <a:ext cx="2743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de-DE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fld id="{A4671006-AEFD-4264-87E9-31850EC78D2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-10287000" y="685800"/>
            <a:ext cx="2743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de-DE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fld id="{46DB385C-4D20-4A45-818F-859185707A1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-10287000" y="685800"/>
            <a:ext cx="2743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de-DE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fld id="{6BAA01FB-707E-4A7D-B13F-701146BCFEA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04C3-9581-4C2D-9D7B-3BA6A5FB4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5040" y="-86040"/>
            <a:ext cx="65851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5040" y="212760"/>
            <a:ext cx="6585120" cy="288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99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5040" y="528840"/>
            <a:ext cx="6585120" cy="288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99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B248-DF3A-4146-ADB1-9DBD3862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5040" y="-86040"/>
            <a:ext cx="65851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5040" y="212760"/>
            <a:ext cx="3213360" cy="288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99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39320" y="212760"/>
            <a:ext cx="3213360" cy="288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99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5040" y="528840"/>
            <a:ext cx="3213360" cy="288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99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39320" y="528840"/>
            <a:ext cx="3213360" cy="288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99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5993-702D-4F0D-88E4-CE94A78EC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5040" y="-86040"/>
            <a:ext cx="65851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5040" y="212760"/>
            <a:ext cx="2120040" cy="288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99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91640" y="212760"/>
            <a:ext cx="2120040" cy="288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99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17880" y="212760"/>
            <a:ext cx="2120040" cy="288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99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5040" y="528840"/>
            <a:ext cx="2120040" cy="288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99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91640" y="528840"/>
            <a:ext cx="2120040" cy="288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99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17880" y="528840"/>
            <a:ext cx="2120040" cy="288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99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982D-8C30-438E-8589-ACFC85DF5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5040" y="-86040"/>
            <a:ext cx="65851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65040" y="212760"/>
            <a:ext cx="658512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5040" y="-86040"/>
            <a:ext cx="65851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65040" y="212760"/>
            <a:ext cx="6585120" cy="604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5040" y="-86040"/>
            <a:ext cx="65851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65040" y="212760"/>
            <a:ext cx="3213360" cy="604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39320" y="212760"/>
            <a:ext cx="3213360" cy="604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5040" y="-86040"/>
            <a:ext cx="65851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65040" y="36360"/>
            <a:ext cx="65851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5040" y="-86040"/>
            <a:ext cx="65851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5040" y="212760"/>
            <a:ext cx="3213360" cy="288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99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739320" y="212760"/>
            <a:ext cx="3213360" cy="604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65040" y="528840"/>
            <a:ext cx="3213360" cy="288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99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5040" y="-86040"/>
            <a:ext cx="65851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5040" y="212760"/>
            <a:ext cx="658512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FE21-B315-4E82-AAC1-2AE94A07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5040" y="-86040"/>
            <a:ext cx="65851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5040" y="212760"/>
            <a:ext cx="3213360" cy="604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739320" y="212760"/>
            <a:ext cx="3213360" cy="288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99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739320" y="528840"/>
            <a:ext cx="3213360" cy="288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99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5040" y="-86040"/>
            <a:ext cx="65851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5040" y="212760"/>
            <a:ext cx="3213360" cy="288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99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739320" y="212760"/>
            <a:ext cx="3213360" cy="288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99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65040" y="528840"/>
            <a:ext cx="6585120" cy="288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99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5040" y="-86040"/>
            <a:ext cx="65851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5040" y="212760"/>
            <a:ext cx="6585120" cy="288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99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5040" y="528840"/>
            <a:ext cx="6585120" cy="288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99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5040" y="-86040"/>
            <a:ext cx="65851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65040" y="212760"/>
            <a:ext cx="3213360" cy="288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99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39320" y="212760"/>
            <a:ext cx="3213360" cy="288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99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65040" y="528840"/>
            <a:ext cx="3213360" cy="288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99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3739320" y="528840"/>
            <a:ext cx="3213360" cy="288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99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5040" y="-86040"/>
            <a:ext cx="65851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5040" y="212760"/>
            <a:ext cx="2120040" cy="288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99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591640" y="212760"/>
            <a:ext cx="2120040" cy="288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99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17880" y="212760"/>
            <a:ext cx="2120040" cy="288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99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65040" y="528840"/>
            <a:ext cx="2120040" cy="288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99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2591640" y="528840"/>
            <a:ext cx="2120040" cy="288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99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4817880" y="528840"/>
            <a:ext cx="2120040" cy="288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99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5040" y="-86040"/>
            <a:ext cx="65851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5040" y="212760"/>
            <a:ext cx="6585120" cy="604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F1EC-54E0-4B6F-AE37-D4E3D933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5040" y="-86040"/>
            <a:ext cx="65851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5040" y="212760"/>
            <a:ext cx="3213360" cy="604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39320" y="212760"/>
            <a:ext cx="3213360" cy="604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B6BE-C82F-41B6-BCA2-3790F7D1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5040" y="-86040"/>
            <a:ext cx="65851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5EC3-D25A-4C19-A05B-BF9663CD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5040" y="36360"/>
            <a:ext cx="65851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0BC9-4C4E-4985-8CD9-1CBE45C3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5040" y="-86040"/>
            <a:ext cx="65851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5040" y="212760"/>
            <a:ext cx="3213360" cy="288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99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39320" y="212760"/>
            <a:ext cx="3213360" cy="604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5040" y="528840"/>
            <a:ext cx="3213360" cy="288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99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9584-60F4-41CC-9ADD-B9CEBFC5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5040" y="-86040"/>
            <a:ext cx="65851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5040" y="212760"/>
            <a:ext cx="3213360" cy="604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39320" y="212760"/>
            <a:ext cx="3213360" cy="288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99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39320" y="528840"/>
            <a:ext cx="3213360" cy="288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99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BCA7-BA0E-411D-B87C-F4BEF915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5040" y="-86040"/>
            <a:ext cx="658512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5040" y="212760"/>
            <a:ext cx="3213360" cy="288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99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39320" y="212760"/>
            <a:ext cx="3213360" cy="288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99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5040" y="528840"/>
            <a:ext cx="6585120" cy="288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99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CE35-69CB-4BC8-9EE5-5631B0BC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5040" y="36360"/>
            <a:ext cx="6585120" cy="1526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5040" y="212760"/>
            <a:ext cx="6585120" cy="604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28000"/>
          </a:bodyPr>
          <a:p>
            <a:pPr marL="48960" indent="-4896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560" indent="-4068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64160" indent="-3276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230040" indent="-327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295920" indent="-3276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5" marL="295920" indent="-3276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6" marL="295920" indent="-3276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64680" y="847800"/>
            <a:ext cx="1708200" cy="489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en-US" sz="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98760" y="847800"/>
            <a:ext cx="2317680" cy="489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241600" y="847800"/>
            <a:ext cx="1708200" cy="489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en-US" sz="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fld id="{9FF57D5D-702E-4A1F-A939-9C46B57D83FB}" type="slidenum"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5040" y="36360"/>
            <a:ext cx="6585120" cy="1526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65040" y="212760"/>
            <a:ext cx="6585120" cy="604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28000"/>
          </a:bodyPr>
          <a:p>
            <a:pPr marL="48960" indent="-4896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560" indent="-4068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64160" indent="-3276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230040" indent="-327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295920" indent="-3276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5" marL="295920" indent="-3276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6" marL="295920" indent="-3276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49360" y="283680"/>
            <a:ext cx="6216480" cy="195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ease silence all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lectronic devic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6583320" cy="1526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lora, my friends, you'll mak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rest of the n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6583320" cy="1526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ine with other pleasu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6583320" cy="1526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ne makes a party liveli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6583320" cy="1526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ll you be able to enjoy i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6583320" cy="1526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want 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6583320" cy="1526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give myself to plea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6583320" cy="1526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d dull my pain with that dru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6583320" cy="1526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es, life is doubled with pleasure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250920"/>
            <a:ext cx="6583320" cy="4129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1" lang="de-DE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6583320" cy="1526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lfredo Germont, madam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9360" y="283680"/>
            <a:ext cx="6216480" cy="195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 Travi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6583320" cy="1526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s another who admires you greatly 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6583320" cy="1526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re are few friends like hi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6583320" cy="1526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y dear Viscount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ank you for this gif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6583320" cy="1526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ar Alfredo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6583320" cy="1526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rqui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6583320" cy="1526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told you you'd find friendship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d pleasure he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6583320" cy="1526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s everything read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6583320" cy="1526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y friends, be seated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6583320" cy="1526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t the table our hearts will open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6583320" cy="1526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ell said! Our friend liqu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6583320" cy="1526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(The </a:t>
            </a: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Lost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On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6583320" cy="1526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lways gets rid of secret sorrow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250920"/>
            <a:ext cx="6583320" cy="4129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1" lang="de-DE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355320"/>
            <a:ext cx="6765840" cy="152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usic by Giuseppe Verd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6583320" cy="1526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ibretto by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rancesco Maria Pia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6583320" cy="1526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CT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250920"/>
            <a:ext cx="6583320" cy="4129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1" lang="de-DE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6583320" cy="1526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t's past the invitation time –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ou're l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6583320" cy="1526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e were gambling at Flora'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d the time fle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2T14:10:37Z</dcterms:created>
  <dc:creator> </dc:creator>
  <dc:description/>
  <dc:language>en-US</dc:language>
  <cp:lastModifiedBy>Microsoft Office User</cp:lastModifiedBy>
  <cp:lastPrinted>2008-02-24T15:49:01Z</cp:lastPrinted>
  <dcterms:modified xsi:type="dcterms:W3CDTF">2022-02-22T21:31:51Z</dcterms:modified>
  <cp:revision>271</cp:revision>
  <dc:subject/>
  <dc:title>Supertitles Sample</dc:title>
</cp:coreProperties>
</file>